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bomb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A2BC-D693-4736-993B-09DA08DF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B200-FDE4-4325-8D5F-D083549B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6CB0-5378-4D0F-92F4-D0B1975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62AC-97A6-483D-A6D4-7124D576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41C3-7372-4E66-AA8E-188B89AA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63D2-008C-447B-8DAD-F064DA88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178C-F364-4584-A9A9-32C865F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96F7-6DF2-462A-8878-116C9E4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8CCC-A7FA-4FA4-B454-F24EA720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A402-2FFD-4039-98C7-1B91B5C0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96E5-5E5B-40C7-A64B-AAF1A67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BA86-F805-46A3-93C2-ACF9A61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CDE-E6CF-43C0-999C-41412C7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248-07B7-4AE8-A0B7-F057B94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5098-3AC8-4BA6-9038-464442AE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5587-3246-4437-B07A-62C597B8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C612-94B1-469C-AE75-D0BC521F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2E51-FB4A-4341-9341-A598D9F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10B0-4A76-4EF0-A1B7-BBE9374D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C055-A1FA-408C-834A-6E2B021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2E2A-F635-4779-A134-5CA2E42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08E5-3495-41E4-9C12-FA3E23D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F7F9-2459-4551-B7D8-376B4AA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4DDD-0454-4B79-A876-81C6B4A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BE64-542A-408D-B039-7C2E1EE62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9EB9-9C2B-40CA-88CD-EEEEAEC73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American story part 2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Tavon Croo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1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nior Seau, 1969-2012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2, 2012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FL linebacker Junior Se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itted suicide by a self-inflicted gunshot wound to the chest. Later analysis of Seau's brain reveled that he suffered fr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Traumatic Encephalopathy (C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form of degenera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dam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ociated with repeti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-concuss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uma to the br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Junior Seau, 1969-2012.jpg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hina's Manned Space Program: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e 16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ina launched its fourth manned space expedition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enzhou-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C618N0079H_2012資料照片_N71_copy1.JPG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131660413_31n.jpg"/>
          <p:cNvPicPr/>
          <p:nvPr/>
        </p:nvPicPr>
        <p:blipFill>
          <a:blip r:embed="rId2"/>
          <a:stretch/>
        </p:blipFill>
        <p:spPr>
          <a:xfrm>
            <a:off x="4952880" y="3581280"/>
            <a:ext cx="2352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2012 Summer Olympics in London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y 27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London, the opening ceremony to the 2013 Summer Olympic Games were he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London-2012-Olympics-Tower-Bridge.jpg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Death of the First Man on the Moo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gust 25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tired American Astronaut Neil Armstrong, the first human being to walk on the Moon, died at the age of 8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734px-As11-40-5886.jpg"/>
          <p:cNvPicPr/>
          <p:nvPr/>
        </p:nvPicPr>
        <p:blipFill>
          <a:blip r:embed="rId1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The First Obama-Romney Debate: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irst televised debate between the Republican and Democratic presidential nominees, Mitt Romney won a clear victory over President Oba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presidential-debate-1003.jpg"/>
          <p:cNvPicPr/>
          <p:nvPr/>
        </p:nvPicPr>
        <p:blipFill>
          <a:blip r:embed="rId1"/>
          <a:stretch/>
        </p:blipFill>
        <p:spPr>
          <a:xfrm>
            <a:off x="5638680" y="1523880"/>
            <a:ext cx="3505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bama Bounces Back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Obama and Governor Romney debated for a second time, this time in a "Town Hall" format. In this debate, Obama was much more aggressive, and much more effecti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1017_Debate_02_630x420.jpg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hina's 5th Manned Space Missi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e 11, 201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ina launched its fifth manned mission into space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enzhou-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Shenzhou-10-11June2013-Long-March-2F-Rocket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ope Francis issue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vember 26, 201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Papal treatise entitl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vangelii Gau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e Franc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nounced unrestrained capitalis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Pope-Francis-2013.jpg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eattle Seahawk'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uary 19, 201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NFC Championship game between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ttle Seahaw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Francisco Forty-Nin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Richard-Sherman-Rant-NFC-Championship-19Jan2014.jpg"/>
          <p:cNvPicPr/>
          <p:nvPr/>
        </p:nvPicPr>
        <p:blipFill>
          <a:blip r:embed="rId1"/>
          <a:stretch/>
        </p:blipFill>
        <p:spPr>
          <a:xfrm>
            <a:off x="4952880" y="18288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2, 201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Bowl XLVII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ttle Seahaw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eat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ver Bronc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3 to 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Seattle's victory over Denver was the Seahawk's first Super Bowl Championshi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Russell-Wilson-Seattle-QB-Super-Bowl-XLVIII.jpg"/>
          <p:cNvPicPr/>
          <p:nvPr/>
        </p:nvPicPr>
        <p:blipFill>
          <a:blip r:embed="rId1"/>
          <a:stretch/>
        </p:blipFill>
        <p:spPr>
          <a:xfrm>
            <a:off x="487692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publican Presidential Debat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Presidential hopefuls debated in Manchester, New Hampshire over 6 months in advance of the New Hampshire Primary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e 13, 201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Candidates at Republican Debate New Hampshire.jpg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oops--Surround Ukrainian Military Bas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h 2, 201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med troops who were presumably Russian troops took up posts outside a Ukrainian military base in the Crimea region of Ukraine. Reportedly the base was surrounded by these troo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Ukrainian-Military-Base-Crimea-Surrounded-by-Armed-Men-2MARCH2014.jpg"/>
          <p:cNvPicPr/>
          <p:nvPr/>
        </p:nvPicPr>
        <p:blipFill>
          <a:blip r:embed="rId1"/>
          <a:stretch/>
        </p:blipFill>
        <p:spPr>
          <a:xfrm>
            <a:off x="54100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ISIS Beheads British Humanitarian Aid Worker David Haines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3, 2014, an image showing British humanitarian aid worker David Haines prior to his brutal execution at the hands of IS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Daily-Mail-13SEPT2014-photo-release-ISIS-Executes-David-Haines.jpg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errorism in Franc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03240" y="3443400"/>
            <a:ext cx="681840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es released by French authorities of two people believed to be connected to a hostage situation in Paris, January 9, 2015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Yahoo.com-copy-French-Law-Enforcement-Images-Hayat-Boumeddiene-and-Amedy-Coulibaly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French Forces Bring Two Hostage Situations to an End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0528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brothers suspected of carrying out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arlie Heb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ssacre, and who evidently were killed during an assault by French forces on January 9, 201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BC-Photos-Cherif-Kouachi-and-Said-Kouachi-Suspects-in-Charlie-Hebdo-Attacks.jpg"/>
          <p:cNvPicPr/>
          <p:nvPr/>
        </p:nvPicPr>
        <p:blipFill>
          <a:blip r:embed="rId1"/>
          <a:stretch/>
        </p:blipFill>
        <p:spPr>
          <a:xfrm>
            <a:off x="4724280" y="1447920"/>
            <a:ext cx="4419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ollege Football Playoff Championship Gam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io State Defeated Oregon, 42 to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uary 12, 2015 (Monda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AP-Photo-Ohio-State-Runner-Carries-the-Ball-Against-Oregon-National-Championship-Game-Monday-12JAN2015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per Bowl XLIX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England Patriots Defeated the Seattle Seahawks, 28 to 24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1, 2015 (Sunday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Getty-Images-New-England-HC-Bill-Belichick-celebrating-with-Patriots-Player-Darrelle-Revis-after-winning-Super-Bowl-XLIX-versus-the-Seattle-Seahawks-1FEB2015.jpg"/>
          <p:cNvPicPr/>
          <p:nvPr/>
        </p:nvPicPr>
        <p:blipFill>
          <a:blip r:embed="rId1"/>
          <a:stretch/>
        </p:blipFill>
        <p:spPr>
          <a:xfrm>
            <a:off x="5029200" y="16002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EO of App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gust 24, 201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 Cook, Baldwin County, Alabama n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n alumnus of bo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ertsdale High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burn 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as nam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Executive Officer of Ap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ne of the world's foremost computer compan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200px-Tim_Cook_2009_cropped.jpg"/>
          <p:cNvPicPr/>
          <p:nvPr/>
        </p:nvPicPr>
        <p:blipFill>
          <a:blip r:embed="rId1"/>
          <a:stretch/>
        </p:blipFill>
        <p:spPr>
          <a:xfrm>
            <a:off x="5486400" y="16765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est coach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e Paterno Won his 409th Game at Penn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AP-Photo-Joe-Paterno-29OCT2011-PSU-After-409th-Victory.jpg"/>
          <p:cNvPicPr/>
          <p:nvPr/>
        </p:nvPicPr>
        <p:blipFill>
          <a:blip r:embed="rId1"/>
          <a:stretch/>
        </p:blipFill>
        <p:spPr>
          <a:xfrm>
            <a:off x="4762440" y="1447920"/>
            <a:ext cx="43815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Quest for the Republican Nominatio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ember 10, 201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ublicans presidential candidates debated prior to the Iowa Cauc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1215-final-Republican-Debate-thursday-night_full_380.jpg"/>
          <p:cNvPicPr/>
          <p:nvPr/>
        </p:nvPicPr>
        <p:blipFill>
          <a:blip r:embed="rId1"/>
          <a:stretch/>
        </p:blipFill>
        <p:spPr>
          <a:xfrm>
            <a:off x="525780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U.S. troop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82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st American Combat Troops Leave Iraq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ember 18, 2011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U.S.-out-of-Iraq-2011.jpg"/>
          <p:cNvPicPr/>
          <p:nvPr/>
        </p:nvPicPr>
        <p:blipFill>
          <a:blip r:embed="rId1"/>
          <a:stretch/>
        </p:blipFill>
        <p:spPr>
          <a:xfrm>
            <a:off x="4857840" y="1600200"/>
            <a:ext cx="42861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Whitney Houston, 1963-2012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11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nger and Actress Whitney Houston died of a drug overd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Whitney-Houston-1963-2012.jpg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ayvon Marti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e War: The Killing of Trayvon Marti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bruary 26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Trayvon-Martin.jpg"/>
          <p:cNvPicPr/>
          <p:nvPr/>
        </p:nvPicPr>
        <p:blipFill>
          <a:blip r:embed="rId1"/>
          <a:stretch/>
        </p:blipFill>
        <p:spPr>
          <a:xfrm>
            <a:off x="5638680" y="15238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Richard Land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e War: Southern Baptist Religious Right Political Activist Richard Land, Race, and the Murder of Trayvon Marti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h 31, 201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Richard-Land-photo-portrait.jpg"/>
          <p:cNvPicPr/>
          <p:nvPr/>
        </p:nvPicPr>
        <p:blipFill>
          <a:blip r:embed="rId1"/>
          <a:stretch/>
        </p:blipFill>
        <p:spPr>
          <a:xfrm>
            <a:off x="5867280" y="1600200"/>
            <a:ext cx="327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28:00Z</dcterms:created>
  <dc:creator>user</dc:creator>
  <dc:description/>
  <dc:language>en-US</dc:language>
  <cp:lastModifiedBy>Mark Leavins</cp:lastModifiedBy>
  <dcterms:modified xsi:type="dcterms:W3CDTF">2015-02-20T00:47:12Z</dcterms:modified>
  <cp:revision>4</cp:revision>
  <dc:subject/>
  <dc:title>The American story part 2</dc:title>
</cp:coreProperties>
</file>